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move the slide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oefler Tex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irst three minutes of “Growing up Online” 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What thinking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go to the coke website...classic!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pen Happiness” 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marL="99360" indent="-99360" algn="ctr"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marL="99360" indent="-99360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marL="99360" indent="-99360" algn="ctr"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marL="99360" indent="-99360" algn="ctr"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marL="99360" indent="-99360" algn="ctr"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marL="99360" indent="-99360" algn="ctr"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marL="16452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64520" indent="-16452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64520" indent="-16452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47880" indent="-4788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47880" indent="-4788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HMQEggEG4k&amp;feature=related" TargetMode="External"/><Relationship Id="rId2" Type="http://schemas.openxmlformats.org/officeDocument/2006/relationships/hyperlink" Target="http://www.youtube.com/watch?v=BoE5zaAjr8Q&amp;feature=related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Video.php?video_id=41007&amp;title=Persuasive_Appeals_Ethos_Logos_Pathos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Persuasive Appeals</a:t>
            </a:r>
            <a:br>
              <a:rPr sz="7800"/>
            </a:b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Introducing the concepts of Ethos, Logos &amp; Pathos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1219320" y="1092240"/>
            <a:ext cx="1056636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Ethics (Eth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87320" y="2565000"/>
            <a:ext cx="1143000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thics (ethos) means convincing by the character of the author. We tend to believe people whom we respect (or that show respect to us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42880" indent="-5428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thics is used to convince readers that the author is being fair and honest and well informed so that readers will trust values and inten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4800" indent="-54252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thical appeals avoid the use of negatively charged/loaded word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" descr=""/>
          <p:cNvPicPr/>
          <p:nvPr/>
        </p:nvPicPr>
        <p:blipFill>
          <a:blip r:embed="rId1"/>
          <a:stretch/>
        </p:blipFill>
        <p:spPr>
          <a:xfrm>
            <a:off x="558720" y="546120"/>
            <a:ext cx="11874600" cy="83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" descr=""/>
          <p:cNvPicPr/>
          <p:nvPr/>
        </p:nvPicPr>
        <p:blipFill>
          <a:blip r:embed="rId1"/>
          <a:stretch/>
        </p:blipFill>
        <p:spPr>
          <a:xfrm>
            <a:off x="977760" y="533520"/>
            <a:ext cx="1129032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Emotions (Path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ing via pathos is persuading by appealing to the reader’s emotions. A carefully reasoned argument can be strengthened by an emotional appeal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scription or narration often from a persons own experience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 author’s point of view puts the reader in a certain frame of mind through the evidence itself, but also through carefully chosen words with positive or negative connotations that can sway readers’ emo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" descr=""/>
          <p:cNvPicPr/>
          <p:nvPr/>
        </p:nvPicPr>
        <p:blipFill>
          <a:blip r:embed="rId1"/>
          <a:stretch/>
        </p:blipFill>
        <p:spPr>
          <a:xfrm>
            <a:off x="1079640" y="812880"/>
            <a:ext cx="10836000" cy="81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Go back to your quick writ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hat types of persuasive appeals did you use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ere they effective? Why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s there a type of appeal you could have used, but didn’t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Your Task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87320" y="1752120"/>
            <a:ext cx="114300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 groups create a commercial using a variety of persuasive technique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VIDEO = Extra Credi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Your group will perform your commercial on Friday!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Example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"/>
              </a:rPr>
              <a:t>http://www.youtube.com/watch?v=bHMQEggEG4k&amp;feature=related_x000b_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2"/>
              </a:rPr>
              <a:t>http://www.youtube.com/watch?v=BoE5zaAjr8Q&amp;feature=related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13004640" cy="209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Journal: Persuasive Appeals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06440" y="3352320"/>
            <a:ext cx="11963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b4b4b"/>
                </a:solidFill>
                <a:latin typeface="Hoefler Text"/>
              </a:rPr>
              <a:t>WRITE ABOUT: 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A time recently when you tired to persuade someone to do something or when someone tried to persuade you to do something.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? Define please...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531360" indent="-5313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 earnest request for something important (an appeal for help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 formal request in court for a decision to be changed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 quality that makes people like someth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The power or ability to attract, interest, amuse, or stimulate the mind or emo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rgument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uthors purposefully do certain things to persuade us to believe what they are saying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y use all the tools at their disposal to attract our interest, amuse us, entertain us, and/or stimulate our minds or emo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Quite frankly...we do this all the tim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 your journal, take a few moments to write about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a time recently when you tried to persuade someone to do something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or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when someone tried to persuade you to do someth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787320" y="4641840"/>
            <a:ext cx="114300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"/>
              </a:rPr>
              <a:t>Appeals Clip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2158920" y="1739880"/>
            <a:ext cx="8674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5650"/>
                </a:solidFill>
                <a:latin typeface="Hoefler Text"/>
              </a:rPr>
              <a:t>Let’s take a closer look at appeals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Persuasive Appeal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Reason (logos) are the proof, or apparent proof of the words themselve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motion (pathos) - putting the audience into a certain frame of mind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thics (ethos) - </a:t>
            </a:r>
            <a:r>
              <a:rPr b="0" lang="en-US" sz="3600" spc="-1" strike="noStrike">
                <a:solidFill>
                  <a:srgbClr val="4d4d4d"/>
                </a:solidFill>
                <a:latin typeface="Hoefler Text"/>
              </a:rPr>
              <a:t>The personal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character of the speaker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Reason (Log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2374560"/>
            <a:ext cx="1143000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ason (logos) - support of claims with concrete, specific data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0160" indent="-56016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Reason can be inductive or deductiv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95400" indent="-55980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ductive means starting with evidence which leads to a generalizat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95400" indent="-55980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ductive means starting with a general observations and moving to specific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Reason (Log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87320" y="2120400"/>
            <a:ext cx="11430000" cy="709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lvl="1" marL="1005480" indent="-5655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ypically supported by eviden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acts - can be prove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xpert opinion or quota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finitions - statements of mean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tatistics - offer scientific suppor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xamples - powerful illustra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ecdotes - incidents based on personal experienc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vasquez</cp:lastModifiedBy>
  <dcterms:modified xsi:type="dcterms:W3CDTF">2011-04-01T19:08:29Z</dcterms:modified>
  <cp:revision>5</cp:revision>
  <dc:subject/>
  <dc:title>Persuasive Appeals </dc:title>
</cp:coreProperties>
</file>